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90F-5745-4862-B0B9-C8501F82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04A-4EEA-4902-871A-A3E1522B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F13-7943-4CF8-B850-3EF63A13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049-E59E-4380-BBFC-A002EEAF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FCA-A52B-4C9A-85A0-F5490EFA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FB1-82DB-45D3-9DF5-84742571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6EB-1052-4944-AC80-C49F181C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E67-79D0-45CE-A569-BEBD996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937-61CA-4822-BC02-2F62F73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7E1-80BA-47F4-9505-0BD5A47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623-A9A8-43B6-AE6B-1BF1389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970-D268-4264-8FBE-715562D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CBD-E88B-4799-AAD2-EAFF474227B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_2734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600200" y="258444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28800" y="357120"/>
            <a:ext cx="5929200" cy="241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MNA PRIETEN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ŞCOALA CU CLASELE I-VIII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BASCOV- ARGE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CLASA a IV- 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înv. TOMESCU IO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OVESTEA TOAMNE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 IMAGINI ŞI VERS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_2745 (Large)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IMG_2747 (Large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IMG_5375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G_53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DUL MUNCII ÎN ECHIPĂ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XPOZIŢ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MG_276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G_276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EGĂTIRI PENTRU CARNA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IMG_283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IMG_282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ŢII PLA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IMG_2958"/>
          <p:cNvPicPr/>
          <p:nvPr/>
        </p:nvPicPr>
        <p:blipFill>
          <a:blip r:embed="rId1"/>
          <a:stretch/>
        </p:blipFill>
        <p:spPr>
          <a:xfrm>
            <a:off x="500040" y="121428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IMG_2963"/>
          <p:cNvPicPr/>
          <p:nvPr/>
        </p:nvPicPr>
        <p:blipFill>
          <a:blip r:embed="rId2"/>
          <a:stretch/>
        </p:blipFill>
        <p:spPr>
          <a:xfrm>
            <a:off x="4857840" y="1214280"/>
            <a:ext cx="36432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IMG_2956"/>
          <p:cNvPicPr/>
          <p:nvPr/>
        </p:nvPicPr>
        <p:blipFill>
          <a:blip r:embed="rId3"/>
          <a:stretch/>
        </p:blipFill>
        <p:spPr>
          <a:xfrm>
            <a:off x="500040" y="3938760"/>
            <a:ext cx="3929040" cy="263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IMG_2962"/>
          <p:cNvPicPr/>
          <p:nvPr/>
        </p:nvPicPr>
        <p:blipFill>
          <a:blip r:embed="rId4"/>
          <a:stretch/>
        </p:blipFill>
        <p:spPr>
          <a:xfrm>
            <a:off x="4857840" y="3929040"/>
            <a:ext cx="3643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OAMNĂ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IMG_1121"/>
          <p:cNvPicPr/>
          <p:nvPr/>
        </p:nvPicPr>
        <p:blipFill>
          <a:blip r:embed="rId1"/>
          <a:stretch/>
        </p:blipFill>
        <p:spPr>
          <a:xfrm>
            <a:off x="500040" y="135720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MG_1134"/>
          <p:cNvPicPr/>
          <p:nvPr/>
        </p:nvPicPr>
        <p:blipFill>
          <a:blip r:embed="rId2"/>
          <a:stretch/>
        </p:blipFill>
        <p:spPr>
          <a:xfrm>
            <a:off x="4857840" y="135720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MG_1135"/>
          <p:cNvPicPr/>
          <p:nvPr/>
        </p:nvPicPr>
        <p:blipFill>
          <a:blip r:embed="rId3"/>
          <a:stretch/>
        </p:blipFill>
        <p:spPr>
          <a:xfrm>
            <a:off x="500040" y="3938760"/>
            <a:ext cx="3786120" cy="24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IMG_1124"/>
          <p:cNvPicPr/>
          <p:nvPr/>
        </p:nvPicPr>
        <p:blipFill>
          <a:blip r:embed="rId4"/>
          <a:stretch/>
        </p:blipFill>
        <p:spPr>
          <a:xfrm>
            <a:off x="4857840" y="3938760"/>
            <a:ext cx="35719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23:05Z</dcterms:created>
  <dc:creator>Tomy</dc:creator>
  <dc:description/>
  <dc:language>en-US</dc:language>
  <cp:lastModifiedBy>Andrey</cp:lastModifiedBy>
  <dcterms:modified xsi:type="dcterms:W3CDTF">2010-11-20T12:21:57Z</dcterms:modified>
  <cp:revision>4</cp:revision>
  <dc:subject/>
  <dc:title>Slide 1</dc:title>
</cp:coreProperties>
</file>